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A5C-5D21-48DE-B37F-0341A200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A37-10D2-4981-879F-8B3EED97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187-9B11-44A2-9582-44C65E8D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74F-5B11-46ED-80C3-2F0C78FD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125-9B60-40EF-AD14-8FA97737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AC7-8DAC-4BAE-A9FB-AD328A55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B92-62D6-4BA2-BFB2-172BDF62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6A8-F2FD-4730-9E91-6048B9E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1DE-F2F8-49C3-9E5D-73802593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F7E-23A1-473D-9469-31A2AC2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053-3897-4DFA-BFD7-D7D5DD7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FEA-01BA-4A21-B0E3-549231A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8823-8D20-43BF-94A2-8D4B404A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0:11:31Z</dcterms:created>
  <dc:creator>class-7th</dc:creator>
  <dc:description/>
  <dc:language>en-US</dc:language>
  <cp:lastModifiedBy>abc</cp:lastModifiedBy>
  <dcterms:modified xsi:type="dcterms:W3CDTF">2010-11-24T20:12:23Z</dcterms:modified>
  <cp:revision>1</cp:revision>
  <dc:subject/>
  <dc:title>A Day in Life</dc:title>
</cp:coreProperties>
</file>